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FC6A-EB17-4810-89F3-BB2AECECA3F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F895-2049-4D96-AB9D-975119B4E6CB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9A4A-9CBB-4D40-B27C-CD27AF1E4A4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EB1C-62F1-42EC-A184-17977318D92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6FCD-BBF7-4912-9F21-4A452128D6CA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7003-4345-4A95-9B5C-5B1557FB4D91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AF42-035E-4C0C-8FBD-C2623736A559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08D7-2AE7-40B5-B8E2-0EB3D3B5FEE0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7C2B-8DDD-44B5-A037-D0AACA8902C9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9841-4791-416C-9FE7-433F04D61B4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D09D-9CEE-45A8-B32B-BFEFA82B49F6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0423-3407-42C7-8223-883A85A3F6B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8212-713D-493E-B1EC-3ACE08B4F096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2970-F8A7-4B14-8386-2D26DC7F3DC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C028-4472-49DD-8448-49B787B5404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4B45-A5EA-4CD3-9022-C803660C4B02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FEE7-FD5C-4DCA-93FC-3AE204F16C8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C748-AA6D-4093-B76C-D8912F7E7A5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223D-3095-4C86-8C5A-8B965FF3A87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C6E3-5BCE-4544-9502-4DF1E427B96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FBE1-113A-40CC-907D-4044F2104B8B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D1C-9C10-4A54-81B0-55B2E428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1D5-9149-41E5-AED9-A2801F17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5841-083F-43A8-9C69-7C2AD2B3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796-481F-43DE-8DE4-0A953A00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817B-1BD4-40A3-97C8-C0DBE5A6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ED7-E818-464E-8376-86EE1571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073-0805-458E-AABE-D4615056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9FA-A28B-4ED9-8AB7-C35FA95F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BBA-9A44-49C9-858D-B9FD9983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56D-7AD1-4929-8F26-8EE6491A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5C5-F976-4793-8BA9-6D251E3D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69E-1A90-4899-9ED6-2B1DDFE8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6F2F-9E21-41F2-9BEE-CE65EAF9BA4F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ellular Data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Semantics of input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602320" y="2287440"/>
            <a:ext cx="285732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138" name="Picture 8" descr=""/>
          <p:cNvPicPr/>
          <p:nvPr/>
        </p:nvPicPr>
        <p:blipFill>
          <a:blip r:embed="rId2"/>
          <a:srcRect l="24611" t="19776" r="13281" b="29690"/>
          <a:stretch/>
        </p:blipFill>
        <p:spPr>
          <a:xfrm>
            <a:off x="958680" y="2287440"/>
            <a:ext cx="3841920" cy="250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139" name="TextBox 7"/>
          <p:cNvSpPr/>
          <p:nvPr/>
        </p:nvSpPr>
        <p:spPr>
          <a:xfrm>
            <a:off x="1316160" y="493092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al Elev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45240" y="4930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tegor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mode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620640" y="1968480"/>
            <a:ext cx="344664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143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44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635280" y="5502240"/>
          <a:ext cx="2082960" cy="1327320"/>
        </p:xfrm>
        <a:graphic>
          <a:graphicData uri="http://schemas.openxmlformats.org/drawingml/2006/table">
            <a:tbl>
              <a:tblPr/>
              <a:tblGrid>
                <a:gridCol w="662040"/>
                <a:gridCol w="1420920"/>
              </a:tblGrid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6" name="Right Arrow 8"/>
          <p:cNvGrpSpPr/>
          <p:nvPr/>
        </p:nvGrpSpPr>
        <p:grpSpPr>
          <a:xfrm>
            <a:off x="4170240" y="3103560"/>
            <a:ext cx="1395360" cy="749160"/>
            <a:chOff x="4170240" y="3103560"/>
            <a:chExt cx="1395360" cy="749160"/>
          </a:xfrm>
        </p:grpSpPr>
        <p:pic>
          <p:nvPicPr>
            <p:cNvPr id="147" name="Right Arrow 8" descr=""/>
            <p:cNvPicPr/>
            <p:nvPr/>
          </p:nvPicPr>
          <p:blipFill>
            <a:blip r:embed="rId3"/>
            <a:stretch/>
          </p:blipFill>
          <p:spPr>
            <a:xfrm>
              <a:off x="4170240" y="3103560"/>
              <a:ext cx="13953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222800" y="3292560"/>
              <a:ext cx="1123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raster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51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635280" y="5502240"/>
          <a:ext cx="2082960" cy="1327320"/>
        </p:xfrm>
        <a:graphic>
          <a:graphicData uri="http://schemas.openxmlformats.org/drawingml/2006/table">
            <a:tbl>
              <a:tblPr/>
              <a:tblGrid>
                <a:gridCol w="662040"/>
                <a:gridCol w="1420920"/>
              </a:tblGrid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3"/>
          <p:cNvSpPr/>
          <p:nvPr/>
        </p:nvSpPr>
        <p:spPr>
          <a:xfrm>
            <a:off x="755640" y="1413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580000" y="1413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68436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56" name=""/>
          <p:cNvGraphicFramePr/>
          <p:nvPr/>
        </p:nvGraphicFramePr>
        <p:xfrm>
          <a:off x="68436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rcRect l="8404" t="30923" r="2931" b="20898"/>
          <a:stretch/>
        </p:blipFill>
        <p:spPr>
          <a:xfrm>
            <a:off x="608040" y="1574640"/>
            <a:ext cx="853272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Overlap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0" name="Retângulo 1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tângulo 4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tângulo 5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ângulo 6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tângulo 7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ângulo 8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ângulo 9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ângulo 10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Conector de seta reta 11"/>
          <p:cNvCxnSpPr/>
          <p:nvPr/>
        </p:nvCxnSpPr>
        <p:spPr>
          <a:xfrm>
            <a:off x="2555640" y="1844280"/>
            <a:ext cx="361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9" name="Conector de seta reta 14"/>
          <p:cNvCxnSpPr>
            <a:stCxn id="170" idx="0"/>
            <a:endCxn id="171" idx="2"/>
          </p:cNvCxnSpPr>
          <p:nvPr/>
        </p:nvCxnSpPr>
        <p:spPr>
          <a:xfrm flipV="1">
            <a:off x="3822480" y="4868640"/>
            <a:ext cx="2916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2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6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aixaDeTexto 21"/>
          <p:cNvSpPr/>
          <p:nvPr/>
        </p:nvSpPr>
        <p:spPr>
          <a:xfrm>
            <a:off x="5580000" y="54039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4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Conector de seta reta 22"/>
          <p:cNvCxnSpPr>
            <a:stCxn id="173" idx="0"/>
            <a:endCxn id="175" idx="2"/>
          </p:cNvCxnSpPr>
          <p:nvPr/>
        </p:nvCxnSpPr>
        <p:spPr>
          <a:xfrm flipH="1" flipV="1">
            <a:off x="6443280" y="4868640"/>
            <a:ext cx="40392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5" name="Retângulo 12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tângulo 2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19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tângulo 20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tângulo 23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tângulo 24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tângulo 25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tângulo 26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tângulo 27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tângulo 28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tângulo 29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tângulo 30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Centroi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cxnSp>
        <p:nvCxnSpPr>
          <p:cNvPr id="187" name="Conector de seta reta 11"/>
          <p:cNvCxnSpPr/>
          <p:nvPr/>
        </p:nvCxnSpPr>
        <p:spPr>
          <a:xfrm>
            <a:off x="2555640" y="1844280"/>
            <a:ext cx="361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8" name="Conector de seta reta 14"/>
          <p:cNvCxnSpPr>
            <a:stCxn id="189" idx="0"/>
          </p:cNvCxnSpPr>
          <p:nvPr/>
        </p:nvCxnSpPr>
        <p:spPr>
          <a:xfrm flipV="1">
            <a:off x="3822480" y="4868640"/>
            <a:ext cx="2916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4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aixaDeTexto 21"/>
          <p:cNvSpPr/>
          <p:nvPr/>
        </p:nvSpPr>
        <p:spPr>
          <a:xfrm>
            <a:off x="5580000" y="54039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4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Conector de seta reta 22"/>
          <p:cNvCxnSpPr>
            <a:stCxn id="191" idx="0"/>
          </p:cNvCxnSpPr>
          <p:nvPr/>
        </p:nvCxnSpPr>
        <p:spPr>
          <a:xfrm flipH="1" flipV="1">
            <a:off x="6443280" y="4868640"/>
            <a:ext cx="40392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3" name="Elipse 3"/>
          <p:cNvSpPr/>
          <p:nvPr/>
        </p:nvSpPr>
        <p:spPr>
          <a:xfrm>
            <a:off x="4336920" y="386064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lipse 31"/>
          <p:cNvSpPr/>
          <p:nvPr/>
        </p:nvSpPr>
        <p:spPr>
          <a:xfrm>
            <a:off x="3244680" y="27669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lipse 32"/>
          <p:cNvSpPr/>
          <p:nvPr/>
        </p:nvSpPr>
        <p:spPr>
          <a:xfrm>
            <a:off x="3251160" y="3860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lipse 34"/>
          <p:cNvSpPr/>
          <p:nvPr/>
        </p:nvSpPr>
        <p:spPr>
          <a:xfrm>
            <a:off x="4336920" y="27669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lipse 35"/>
          <p:cNvSpPr/>
          <p:nvPr/>
        </p:nvSpPr>
        <p:spPr>
          <a:xfrm>
            <a:off x="6513480" y="386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lipse 36"/>
          <p:cNvSpPr/>
          <p:nvPr/>
        </p:nvSpPr>
        <p:spPr>
          <a:xfrm>
            <a:off x="5421240" y="27669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lipse 37"/>
          <p:cNvSpPr/>
          <p:nvPr/>
        </p:nvSpPr>
        <p:spPr>
          <a:xfrm>
            <a:off x="542772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lipse 38"/>
          <p:cNvSpPr/>
          <p:nvPr/>
        </p:nvSpPr>
        <p:spPr>
          <a:xfrm>
            <a:off x="6513480" y="27669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tângulo 40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tângulo 41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tângulo 42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tângulo 43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tângulo 44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tângulo 45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tângulo 46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tângulo 47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tângulo 48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tângulo 49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Overlap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cxnSp>
        <p:nvCxnSpPr>
          <p:cNvPr id="212" name="Conector de seta reta 11"/>
          <p:cNvCxnSpPr/>
          <p:nvPr/>
        </p:nvCxnSpPr>
        <p:spPr>
          <a:xfrm>
            <a:off x="2556000" y="1844640"/>
            <a:ext cx="720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3" name="Conector de seta reta 14"/>
          <p:cNvCxnSpPr>
            <a:stCxn id="214" idx="0"/>
          </p:cNvCxnSpPr>
          <p:nvPr/>
        </p:nvCxnSpPr>
        <p:spPr>
          <a:xfrm flipH="1" flipV="1">
            <a:off x="3287520" y="4436280"/>
            <a:ext cx="53568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5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1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aixaDeTexto 21"/>
          <p:cNvSpPr/>
          <p:nvPr/>
        </p:nvSpPr>
        <p:spPr>
          <a:xfrm>
            <a:off x="5580000" y="54039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2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Conector de seta reta 22"/>
          <p:cNvCxnSpPr>
            <a:stCxn id="216" idx="0"/>
          </p:cNvCxnSpPr>
          <p:nvPr/>
        </p:nvCxnSpPr>
        <p:spPr>
          <a:xfrm flipH="1" flipV="1">
            <a:off x="5579280" y="4436640"/>
            <a:ext cx="136908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Conector de seta reta 20"/>
          <p:cNvCxnSpPr>
            <a:stCxn id="214" idx="0"/>
          </p:cNvCxnSpPr>
          <p:nvPr/>
        </p:nvCxnSpPr>
        <p:spPr>
          <a:xfrm flipV="1">
            <a:off x="3822840" y="4436280"/>
            <a:ext cx="54504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Conector de seta reta 23"/>
          <p:cNvCxnSpPr>
            <a:stCxn id="214" idx="0"/>
          </p:cNvCxnSpPr>
          <p:nvPr/>
        </p:nvCxnSpPr>
        <p:spPr>
          <a:xfrm flipH="1" flipV="1">
            <a:off x="3287520" y="3338280"/>
            <a:ext cx="535680" cy="20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Conector de seta reta 26"/>
          <p:cNvCxnSpPr>
            <a:stCxn id="214" idx="0"/>
          </p:cNvCxnSpPr>
          <p:nvPr/>
        </p:nvCxnSpPr>
        <p:spPr>
          <a:xfrm flipV="1">
            <a:off x="3822840" y="3357000"/>
            <a:ext cx="605520" cy="20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Conector de seta reta 31"/>
          <p:cNvCxnSpPr>
            <a:stCxn id="216" idx="0"/>
          </p:cNvCxnSpPr>
          <p:nvPr/>
        </p:nvCxnSpPr>
        <p:spPr>
          <a:xfrm flipH="1" flipV="1">
            <a:off x="5457600" y="3357360"/>
            <a:ext cx="149112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Conector de seta reta 34"/>
          <p:cNvCxnSpPr>
            <a:stCxn id="214" idx="0"/>
          </p:cNvCxnSpPr>
          <p:nvPr/>
        </p:nvCxnSpPr>
        <p:spPr>
          <a:xfrm flipV="1">
            <a:off x="3822840" y="4430520"/>
            <a:ext cx="2715120" cy="9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Conector de seta reta 37"/>
          <p:cNvCxnSpPr>
            <a:stCxn id="214" idx="0"/>
          </p:cNvCxnSpPr>
          <p:nvPr/>
        </p:nvCxnSpPr>
        <p:spPr>
          <a:xfrm flipV="1">
            <a:off x="3822480" y="3357000"/>
            <a:ext cx="2765880" cy="20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tângulo 28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tângulo 29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tângulo 30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tângulo 32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tângulo 33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tângulo 35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tângulo 36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tângulo 38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tângulo 39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tângulo 40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Centroi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cxnSp>
        <p:nvCxnSpPr>
          <p:cNvPr id="235" name="Conector de seta reta 11"/>
          <p:cNvCxnSpPr/>
          <p:nvPr/>
        </p:nvCxnSpPr>
        <p:spPr>
          <a:xfrm>
            <a:off x="2556000" y="1844640"/>
            <a:ext cx="720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Conector de seta reta 14"/>
          <p:cNvCxnSpPr>
            <a:stCxn id="237" idx="0"/>
          </p:cNvCxnSpPr>
          <p:nvPr/>
        </p:nvCxnSpPr>
        <p:spPr>
          <a:xfrm flipH="1" flipV="1">
            <a:off x="3287520" y="4436640"/>
            <a:ext cx="366120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8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1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aixaDeTexto 21"/>
          <p:cNvSpPr/>
          <p:nvPr/>
        </p:nvSpPr>
        <p:spPr>
          <a:xfrm>
            <a:off x="5580000" y="54039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0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Conector de seta reta 22"/>
          <p:cNvCxnSpPr>
            <a:stCxn id="237" idx="0"/>
          </p:cNvCxnSpPr>
          <p:nvPr/>
        </p:nvCxnSpPr>
        <p:spPr>
          <a:xfrm flipH="1" flipV="1">
            <a:off x="5579280" y="4436640"/>
            <a:ext cx="136908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Conector de seta reta 20"/>
          <p:cNvCxnSpPr>
            <a:stCxn id="239" idx="0"/>
          </p:cNvCxnSpPr>
          <p:nvPr/>
        </p:nvCxnSpPr>
        <p:spPr>
          <a:xfrm flipV="1">
            <a:off x="3822840" y="4436280"/>
            <a:ext cx="54504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Conector de seta reta 23"/>
          <p:cNvCxnSpPr>
            <a:stCxn id="237" idx="0"/>
          </p:cNvCxnSpPr>
          <p:nvPr/>
        </p:nvCxnSpPr>
        <p:spPr>
          <a:xfrm flipH="1" flipV="1">
            <a:off x="3287520" y="3337920"/>
            <a:ext cx="3661200" cy="206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Conector de seta reta 26"/>
          <p:cNvCxnSpPr>
            <a:stCxn id="237" idx="0"/>
          </p:cNvCxnSpPr>
          <p:nvPr/>
        </p:nvCxnSpPr>
        <p:spPr>
          <a:xfrm flipH="1" flipV="1">
            <a:off x="4427280" y="3357360"/>
            <a:ext cx="252144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Conector de seta reta 31"/>
          <p:cNvCxnSpPr>
            <a:stCxn id="237" idx="0"/>
          </p:cNvCxnSpPr>
          <p:nvPr/>
        </p:nvCxnSpPr>
        <p:spPr>
          <a:xfrm flipH="1" flipV="1">
            <a:off x="5457600" y="3357360"/>
            <a:ext cx="149112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Conector de seta reta 34"/>
          <p:cNvCxnSpPr>
            <a:stCxn id="239" idx="0"/>
          </p:cNvCxnSpPr>
          <p:nvPr/>
        </p:nvCxnSpPr>
        <p:spPr>
          <a:xfrm flipV="1">
            <a:off x="3822840" y="4430520"/>
            <a:ext cx="2715120" cy="9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Conector de seta reta 37"/>
          <p:cNvCxnSpPr>
            <a:stCxn id="237" idx="0"/>
          </p:cNvCxnSpPr>
          <p:nvPr/>
        </p:nvCxnSpPr>
        <p:spPr>
          <a:xfrm flipH="1" flipV="1">
            <a:off x="6587280" y="3357360"/>
            <a:ext cx="36108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Elipse 41"/>
          <p:cNvSpPr/>
          <p:nvPr/>
        </p:nvSpPr>
        <p:spPr>
          <a:xfrm>
            <a:off x="3881520" y="34592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Elipse 42"/>
          <p:cNvSpPr/>
          <p:nvPr/>
        </p:nvSpPr>
        <p:spPr>
          <a:xfrm>
            <a:off x="6372360" y="34592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coverage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419640" y="5502240"/>
          <a:ext cx="2082600" cy="1327320"/>
        </p:xfrm>
        <a:graphic>
          <a:graphicData uri="http://schemas.openxmlformats.org/drawingml/2006/table">
            <a:tbl>
              <a:tblPr/>
              <a:tblGrid>
                <a:gridCol w="661680"/>
                <a:gridCol w="1420920"/>
              </a:tblGrid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1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252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Box 11"/>
          <p:cNvSpPr/>
          <p:nvPr/>
        </p:nvSpPr>
        <p:spPr>
          <a:xfrm>
            <a:off x="5643720" y="1484280"/>
            <a:ext cx="32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a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221520" y="5950080"/>
            <a:ext cx="2887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reates three attributes summing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ight Brace 1"/>
          <p:cNvSpPr/>
          <p:nvPr/>
        </p:nvSpPr>
        <p:spPr>
          <a:xfrm>
            <a:off x="5724360" y="5445000"/>
            <a:ext cx="287640" cy="1413000"/>
          </a:xfrm>
          <a:custGeom>
            <a:avLst/>
            <a:gdLst>
              <a:gd name="textAreaLeft" fmla="*/ 0 w 287640"/>
              <a:gd name="textAreaRight" fmla="*/ 103680 w 287640"/>
              <a:gd name="textAreaTop" fmla="*/ 7200 h 1413000"/>
              <a:gd name="textAreaBottom" fmla="*/ 140580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4"/>
                  <a:pt x="10800" y="367"/>
                </a:cubicBezTo>
                <a:lnTo>
                  <a:pt x="10800" y="10433"/>
                </a:lnTo>
                <a:cubicBezTo>
                  <a:pt x="10800" y="10617"/>
                  <a:pt x="16200" y="10800"/>
                  <a:pt x="21600" y="10800"/>
                </a:cubicBezTo>
                <a:cubicBezTo>
                  <a:pt x="16200" y="10800"/>
                  <a:pt x="10800" y="10984"/>
                  <a:pt x="10800" y="11167"/>
                </a:cubicBezTo>
                <a:lnTo>
                  <a:pt x="10800" y="21233"/>
                </a:lnTo>
                <a:cubicBezTo>
                  <a:pt x="10800" y="2141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68436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257" name=""/>
          <p:cNvGraphicFramePr/>
          <p:nvPr/>
        </p:nvGraphicFramePr>
        <p:xfrm>
          <a:off x="68436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TextBox 11"/>
          <p:cNvSpPr/>
          <p:nvPr/>
        </p:nvSpPr>
        <p:spPr>
          <a:xfrm>
            <a:off x="736560" y="148428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as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rcRect l="41681" t="16687" r="30950" b="57875"/>
          <a:stretch/>
        </p:blipFill>
        <p:spPr>
          <a:xfrm>
            <a:off x="3146400" y="458640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vectorial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2"/>
          <a:srcRect l="41681" t="16687" r="30950" b="57875"/>
          <a:stretch/>
        </p:blipFill>
        <p:spPr>
          <a:xfrm>
            <a:off x="971640" y="177336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262" name="Rectangle 15"/>
          <p:cNvSpPr/>
          <p:nvPr/>
        </p:nvSpPr>
        <p:spPr>
          <a:xfrm>
            <a:off x="1033560" y="3097080"/>
            <a:ext cx="785880" cy="85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971640" y="1776240"/>
          <a:ext cx="2643120" cy="2214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Rectangle 3"/>
          <p:cNvSpPr/>
          <p:nvPr/>
        </p:nvSpPr>
        <p:spPr>
          <a:xfrm>
            <a:off x="755640" y="1197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3"/>
          <a:srcRect l="41681" t="16687" r="30950" b="57875"/>
          <a:stretch/>
        </p:blipFill>
        <p:spPr>
          <a:xfrm>
            <a:off x="5651640" y="177336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266" name=""/>
          <p:cNvGraphicFramePr/>
          <p:nvPr/>
        </p:nvGraphicFramePr>
        <p:xfrm>
          <a:off x="5667480" y="1773360"/>
          <a:ext cx="2643120" cy="221436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Rectangle 3"/>
          <p:cNvSpPr/>
          <p:nvPr/>
        </p:nvSpPr>
        <p:spPr>
          <a:xfrm>
            <a:off x="5292720" y="1197000"/>
            <a:ext cx="338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152880" y="4581360"/>
          <a:ext cx="2643120" cy="2214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9" name="Rectangle 3"/>
          <p:cNvSpPr/>
          <p:nvPr/>
        </p:nvSpPr>
        <p:spPr>
          <a:xfrm>
            <a:off x="2843280" y="4005360"/>
            <a:ext cx="33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3"/>
          <p:cNvSpPr/>
          <p:nvPr/>
        </p:nvSpPr>
        <p:spPr>
          <a:xfrm>
            <a:off x="5559480" y="6581880"/>
            <a:ext cx="712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m 5" descr="amazonia.png"/>
          <p:cNvPicPr/>
          <p:nvPr/>
        </p:nvPicPr>
        <p:blipFill>
          <a:blip r:embed="rId1"/>
          <a:stretch/>
        </p:blipFill>
        <p:spPr>
          <a:xfrm>
            <a:off x="611280" y="1017720"/>
            <a:ext cx="8424720" cy="5940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ata as input for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vectorial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755640" y="1197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5292720" y="1197000"/>
            <a:ext cx="338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3"/>
          <p:cNvSpPr/>
          <p:nvPr/>
        </p:nvSpPr>
        <p:spPr>
          <a:xfrm>
            <a:off x="1328760" y="1700280"/>
            <a:ext cx="312840" cy="2520720"/>
          </a:xfrm>
          <a:custGeom>
            <a:avLst/>
            <a:gdLst/>
            <a:ahLst/>
            <a:rect l="l" t="t" r="r" b="b"/>
            <a:pathLst>
              <a:path w="368300" h="3462702">
                <a:moveTo>
                  <a:pt x="368300" y="0"/>
                </a:moveTo>
                <a:cubicBezTo>
                  <a:pt x="338667" y="29633"/>
                  <a:pt x="314269" y="65654"/>
                  <a:pt x="279400" y="88900"/>
                </a:cubicBezTo>
                <a:cubicBezTo>
                  <a:pt x="266700" y="97367"/>
                  <a:pt x="252594" y="104033"/>
                  <a:pt x="241300" y="114300"/>
                </a:cubicBezTo>
                <a:cubicBezTo>
                  <a:pt x="86760" y="254791"/>
                  <a:pt x="192983" y="180378"/>
                  <a:pt x="101600" y="241300"/>
                </a:cubicBezTo>
                <a:cubicBezTo>
                  <a:pt x="79717" y="328834"/>
                  <a:pt x="96706" y="276488"/>
                  <a:pt x="38100" y="393700"/>
                </a:cubicBezTo>
                <a:cubicBezTo>
                  <a:pt x="27219" y="426344"/>
                  <a:pt x="19079" y="447517"/>
                  <a:pt x="12700" y="482600"/>
                </a:cubicBezTo>
                <a:cubicBezTo>
                  <a:pt x="7345" y="512051"/>
                  <a:pt x="4233" y="541867"/>
                  <a:pt x="0" y="571500"/>
                </a:cubicBezTo>
                <a:cubicBezTo>
                  <a:pt x="4233" y="664633"/>
                  <a:pt x="5550" y="757945"/>
                  <a:pt x="12700" y="850900"/>
                </a:cubicBezTo>
                <a:cubicBezTo>
                  <a:pt x="15954" y="893203"/>
                  <a:pt x="29615" y="901619"/>
                  <a:pt x="38100" y="939800"/>
                </a:cubicBezTo>
                <a:cubicBezTo>
                  <a:pt x="52558" y="1004863"/>
                  <a:pt x="45405" y="1030611"/>
                  <a:pt x="76200" y="1092200"/>
                </a:cubicBezTo>
                <a:cubicBezTo>
                  <a:pt x="93133" y="1126067"/>
                  <a:pt x="115026" y="1157879"/>
                  <a:pt x="127000" y="1193800"/>
                </a:cubicBezTo>
                <a:cubicBezTo>
                  <a:pt x="140964" y="1235692"/>
                  <a:pt x="144852" y="1249842"/>
                  <a:pt x="165100" y="1295400"/>
                </a:cubicBezTo>
                <a:cubicBezTo>
                  <a:pt x="172789" y="1312700"/>
                  <a:pt x="180760" y="1329966"/>
                  <a:pt x="190500" y="1346200"/>
                </a:cubicBezTo>
                <a:cubicBezTo>
                  <a:pt x="206206" y="1372377"/>
                  <a:pt x="219714" y="1400814"/>
                  <a:pt x="241300" y="1422400"/>
                </a:cubicBezTo>
                <a:lnTo>
                  <a:pt x="279400" y="1460500"/>
                </a:lnTo>
                <a:cubicBezTo>
                  <a:pt x="309508" y="1611041"/>
                  <a:pt x="269934" y="1455075"/>
                  <a:pt x="317500" y="1562100"/>
                </a:cubicBezTo>
                <a:cubicBezTo>
                  <a:pt x="328374" y="1586566"/>
                  <a:pt x="342900" y="1638300"/>
                  <a:pt x="342900" y="1638300"/>
                </a:cubicBezTo>
                <a:cubicBezTo>
                  <a:pt x="338667" y="1689100"/>
                  <a:pt x="339594" y="1740597"/>
                  <a:pt x="330200" y="1790700"/>
                </a:cubicBezTo>
                <a:cubicBezTo>
                  <a:pt x="325275" y="1816965"/>
                  <a:pt x="260273" y="1909336"/>
                  <a:pt x="254000" y="1917700"/>
                </a:cubicBezTo>
                <a:cubicBezTo>
                  <a:pt x="241300" y="1934633"/>
                  <a:pt x="229675" y="1952429"/>
                  <a:pt x="215900" y="1968500"/>
                </a:cubicBezTo>
                <a:cubicBezTo>
                  <a:pt x="204211" y="1982137"/>
                  <a:pt x="188827" y="1992423"/>
                  <a:pt x="177800" y="2006600"/>
                </a:cubicBezTo>
                <a:cubicBezTo>
                  <a:pt x="159058" y="2030697"/>
                  <a:pt x="143933" y="2057400"/>
                  <a:pt x="127000" y="2082800"/>
                </a:cubicBezTo>
                <a:cubicBezTo>
                  <a:pt x="118533" y="2095500"/>
                  <a:pt x="106427" y="2106420"/>
                  <a:pt x="101600" y="2120900"/>
                </a:cubicBezTo>
                <a:lnTo>
                  <a:pt x="88900" y="2159000"/>
                </a:lnTo>
                <a:cubicBezTo>
                  <a:pt x="93133" y="2226733"/>
                  <a:pt x="91016" y="2295165"/>
                  <a:pt x="101600" y="2362200"/>
                </a:cubicBezTo>
                <a:cubicBezTo>
                  <a:pt x="103981" y="2377277"/>
                  <a:pt x="120987" y="2386271"/>
                  <a:pt x="127000" y="2400300"/>
                </a:cubicBezTo>
                <a:cubicBezTo>
                  <a:pt x="133876" y="2416343"/>
                  <a:pt x="132824" y="2435057"/>
                  <a:pt x="139700" y="2451100"/>
                </a:cubicBezTo>
                <a:cubicBezTo>
                  <a:pt x="145713" y="2465129"/>
                  <a:pt x="158274" y="2475548"/>
                  <a:pt x="165100" y="2489200"/>
                </a:cubicBezTo>
                <a:cubicBezTo>
                  <a:pt x="184109" y="2527218"/>
                  <a:pt x="176009" y="2547326"/>
                  <a:pt x="190500" y="2590800"/>
                </a:cubicBezTo>
                <a:cubicBezTo>
                  <a:pt x="242540" y="2746920"/>
                  <a:pt x="195309" y="2557634"/>
                  <a:pt x="228600" y="2679700"/>
                </a:cubicBezTo>
                <a:cubicBezTo>
                  <a:pt x="271570" y="2837258"/>
                  <a:pt x="237468" y="2731704"/>
                  <a:pt x="266700" y="2819400"/>
                </a:cubicBezTo>
                <a:cubicBezTo>
                  <a:pt x="262467" y="2899833"/>
                  <a:pt x="263597" y="2980729"/>
                  <a:pt x="254000" y="3060700"/>
                </a:cubicBezTo>
                <a:cubicBezTo>
                  <a:pt x="250810" y="3087283"/>
                  <a:pt x="228600" y="3136900"/>
                  <a:pt x="228600" y="3136900"/>
                </a:cubicBezTo>
                <a:cubicBezTo>
                  <a:pt x="224367" y="3196167"/>
                  <a:pt x="226226" y="3256186"/>
                  <a:pt x="215900" y="3314700"/>
                </a:cubicBezTo>
                <a:cubicBezTo>
                  <a:pt x="213247" y="3329731"/>
                  <a:pt x="200271" y="3341074"/>
                  <a:pt x="190500" y="3352800"/>
                </a:cubicBezTo>
                <a:cubicBezTo>
                  <a:pt x="179002" y="3366598"/>
                  <a:pt x="166198" y="3379402"/>
                  <a:pt x="152400" y="3390900"/>
                </a:cubicBezTo>
                <a:cubicBezTo>
                  <a:pt x="66237" y="3462702"/>
                  <a:pt x="141991" y="3388609"/>
                  <a:pt x="101600" y="3429000"/>
                </a:cubicBezTo>
              </a:path>
            </a:pathLst>
          </a:custGeom>
          <a:noFill/>
          <a:ln w="25560">
            <a:solidFill>
              <a:srgbClr val="9999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42920" y="1700280"/>
          <a:ext cx="2928960" cy="2500200"/>
        </p:xfrm>
        <a:graphic>
          <a:graphicData uri="http://schemas.openxmlformats.org/drawingml/2006/table">
            <a:tbl>
              <a:tblPr/>
              <a:tblGrid>
                <a:gridCol w="976320"/>
                <a:gridCol w="976320"/>
                <a:gridCol w="976320"/>
              </a:tblGrid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Freeform 25"/>
          <p:cNvSpPr/>
          <p:nvPr/>
        </p:nvSpPr>
        <p:spPr>
          <a:xfrm>
            <a:off x="5219640" y="1987560"/>
            <a:ext cx="2820960" cy="2862360"/>
          </a:xfrm>
          <a:custGeom>
            <a:avLst/>
            <a:gdLst/>
            <a:ahLst/>
            <a:rect l="l" t="t" r="r" b="b"/>
            <a:pathLst>
              <a:path w="1440910" h="1553029">
                <a:moveTo>
                  <a:pt x="366853" y="319314"/>
                </a:moveTo>
                <a:cubicBezTo>
                  <a:pt x="332986" y="338666"/>
                  <a:pt x="285563" y="396244"/>
                  <a:pt x="236224" y="420914"/>
                </a:cubicBezTo>
                <a:cubicBezTo>
                  <a:pt x="216872" y="430590"/>
                  <a:pt x="194913" y="436242"/>
                  <a:pt x="178167" y="449943"/>
                </a:cubicBezTo>
                <a:cubicBezTo>
                  <a:pt x="141099" y="480272"/>
                  <a:pt x="110434" y="517676"/>
                  <a:pt x="76567" y="551543"/>
                </a:cubicBezTo>
                <a:lnTo>
                  <a:pt x="33024" y="595086"/>
                </a:lnTo>
                <a:cubicBezTo>
                  <a:pt x="27426" y="617477"/>
                  <a:pt x="3996" y="707288"/>
                  <a:pt x="3996" y="725714"/>
                </a:cubicBezTo>
                <a:cubicBezTo>
                  <a:pt x="3996" y="798447"/>
                  <a:pt x="0" y="873091"/>
                  <a:pt x="18510" y="943429"/>
                </a:cubicBezTo>
                <a:cubicBezTo>
                  <a:pt x="25475" y="969896"/>
                  <a:pt x="58756" y="980706"/>
                  <a:pt x="76567" y="1001486"/>
                </a:cubicBezTo>
                <a:cubicBezTo>
                  <a:pt x="87920" y="1014731"/>
                  <a:pt x="94243" y="1031784"/>
                  <a:pt x="105596" y="1045029"/>
                </a:cubicBezTo>
                <a:cubicBezTo>
                  <a:pt x="123407" y="1065809"/>
                  <a:pt x="145631" y="1082489"/>
                  <a:pt x="163653" y="1103086"/>
                </a:cubicBezTo>
                <a:cubicBezTo>
                  <a:pt x="347834" y="1313578"/>
                  <a:pt x="50479" y="988951"/>
                  <a:pt x="250739" y="1233714"/>
                </a:cubicBezTo>
                <a:cubicBezTo>
                  <a:pt x="336788" y="1338886"/>
                  <a:pt x="315672" y="1295591"/>
                  <a:pt x="395882" y="1364343"/>
                </a:cubicBezTo>
                <a:cubicBezTo>
                  <a:pt x="411467" y="1377701"/>
                  <a:pt x="422345" y="1396500"/>
                  <a:pt x="439424" y="1407886"/>
                </a:cubicBezTo>
                <a:cubicBezTo>
                  <a:pt x="452154" y="1416373"/>
                  <a:pt x="467709" y="1421270"/>
                  <a:pt x="482967" y="1422400"/>
                </a:cubicBezTo>
                <a:cubicBezTo>
                  <a:pt x="598865" y="1430985"/>
                  <a:pt x="715196" y="1432076"/>
                  <a:pt x="831310" y="1436914"/>
                </a:cubicBezTo>
                <a:cubicBezTo>
                  <a:pt x="855501" y="1446590"/>
                  <a:pt x="881788" y="1452134"/>
                  <a:pt x="903882" y="1465943"/>
                </a:cubicBezTo>
                <a:cubicBezTo>
                  <a:pt x="921288" y="1476822"/>
                  <a:pt x="931655" y="1496345"/>
                  <a:pt x="947424" y="1509486"/>
                </a:cubicBezTo>
                <a:cubicBezTo>
                  <a:pt x="984937" y="1540747"/>
                  <a:pt x="990872" y="1538482"/>
                  <a:pt x="1034510" y="1553029"/>
                </a:cubicBezTo>
                <a:cubicBezTo>
                  <a:pt x="1092567" y="1548191"/>
                  <a:pt x="1151555" y="1549940"/>
                  <a:pt x="1208682" y="1538514"/>
                </a:cubicBezTo>
                <a:cubicBezTo>
                  <a:pt x="1237131" y="1532824"/>
                  <a:pt x="1277747" y="1480960"/>
                  <a:pt x="1295767" y="1465943"/>
                </a:cubicBezTo>
                <a:cubicBezTo>
                  <a:pt x="1309168" y="1454776"/>
                  <a:pt x="1324796" y="1446590"/>
                  <a:pt x="1339310" y="1436914"/>
                </a:cubicBezTo>
                <a:cubicBezTo>
                  <a:pt x="1364857" y="1360273"/>
                  <a:pt x="1345337" y="1406104"/>
                  <a:pt x="1411882" y="1306286"/>
                </a:cubicBezTo>
                <a:lnTo>
                  <a:pt x="1440910" y="1262743"/>
                </a:lnTo>
                <a:cubicBezTo>
                  <a:pt x="1436072" y="1146629"/>
                  <a:pt x="1439230" y="1029904"/>
                  <a:pt x="1426396" y="914400"/>
                </a:cubicBezTo>
                <a:cubicBezTo>
                  <a:pt x="1424470" y="897063"/>
                  <a:pt x="1406732" y="885574"/>
                  <a:pt x="1397367" y="870857"/>
                </a:cubicBezTo>
                <a:cubicBezTo>
                  <a:pt x="1318933" y="747604"/>
                  <a:pt x="1342551" y="790253"/>
                  <a:pt x="1295767" y="696686"/>
                </a:cubicBezTo>
                <a:cubicBezTo>
                  <a:pt x="1300605" y="599924"/>
                  <a:pt x="1297751" y="502469"/>
                  <a:pt x="1310282" y="406400"/>
                </a:cubicBezTo>
                <a:cubicBezTo>
                  <a:pt x="1312538" y="389103"/>
                  <a:pt x="1338552" y="380284"/>
                  <a:pt x="1339310" y="362857"/>
                </a:cubicBezTo>
                <a:cubicBezTo>
                  <a:pt x="1341913" y="302978"/>
                  <a:pt x="1375298" y="108560"/>
                  <a:pt x="1295767" y="29029"/>
                </a:cubicBezTo>
                <a:cubicBezTo>
                  <a:pt x="1283432" y="16694"/>
                  <a:pt x="1266738" y="9676"/>
                  <a:pt x="1252224" y="0"/>
                </a:cubicBezTo>
                <a:cubicBezTo>
                  <a:pt x="1189329" y="4838"/>
                  <a:pt x="1125539" y="2889"/>
                  <a:pt x="1063539" y="14514"/>
                </a:cubicBezTo>
                <a:cubicBezTo>
                  <a:pt x="1030505" y="20708"/>
                  <a:pt x="999868" y="71476"/>
                  <a:pt x="976453" y="87086"/>
                </a:cubicBezTo>
                <a:cubicBezTo>
                  <a:pt x="963723" y="95573"/>
                  <a:pt x="947424" y="96762"/>
                  <a:pt x="932910" y="101600"/>
                </a:cubicBezTo>
                <a:cubicBezTo>
                  <a:pt x="918396" y="111276"/>
                  <a:pt x="901702" y="118294"/>
                  <a:pt x="889367" y="130629"/>
                </a:cubicBezTo>
                <a:cubicBezTo>
                  <a:pt x="877032" y="142964"/>
                  <a:pt x="875131" y="164927"/>
                  <a:pt x="860339" y="174172"/>
                </a:cubicBezTo>
                <a:cubicBezTo>
                  <a:pt x="772139" y="229297"/>
                  <a:pt x="516328" y="216046"/>
                  <a:pt x="482967" y="217714"/>
                </a:cubicBezTo>
                <a:cubicBezTo>
                  <a:pt x="473291" y="232228"/>
                  <a:pt x="461740" y="245655"/>
                  <a:pt x="453939" y="261257"/>
                </a:cubicBezTo>
                <a:cubicBezTo>
                  <a:pt x="447097" y="274941"/>
                  <a:pt x="447911" y="292070"/>
                  <a:pt x="439424" y="304800"/>
                </a:cubicBezTo>
                <a:cubicBezTo>
                  <a:pt x="428038" y="321879"/>
                  <a:pt x="400720" y="299962"/>
                  <a:pt x="366853" y="319314"/>
                </a:cubicBezTo>
                <a:close/>
              </a:path>
            </a:pathLst>
          </a:cu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7"/>
          <p:cNvSpPr/>
          <p:nvPr/>
        </p:nvSpPr>
        <p:spPr>
          <a:xfrm>
            <a:off x="7505640" y="1844640"/>
            <a:ext cx="1067040" cy="3122640"/>
          </a:xfrm>
          <a:custGeom>
            <a:avLst/>
            <a:gdLst/>
            <a:ahLst/>
            <a:rect l="l" t="t" r="r" b="b"/>
            <a:pathLst>
              <a:path w="1066800" h="3122915">
                <a:moveTo>
                  <a:pt x="7257" y="174171"/>
                </a:moveTo>
                <a:cubicBezTo>
                  <a:pt x="0" y="159657"/>
                  <a:pt x="33721" y="142015"/>
                  <a:pt x="50800" y="130629"/>
                </a:cubicBezTo>
                <a:cubicBezTo>
                  <a:pt x="63530" y="122142"/>
                  <a:pt x="80280" y="122141"/>
                  <a:pt x="94342" y="116114"/>
                </a:cubicBezTo>
                <a:cubicBezTo>
                  <a:pt x="114229" y="107591"/>
                  <a:pt x="132513" y="95609"/>
                  <a:pt x="152400" y="87086"/>
                </a:cubicBezTo>
                <a:cubicBezTo>
                  <a:pt x="166462" y="81059"/>
                  <a:pt x="181663" y="78063"/>
                  <a:pt x="195942" y="72571"/>
                </a:cubicBezTo>
                <a:cubicBezTo>
                  <a:pt x="378302" y="2432"/>
                  <a:pt x="283376" y="28941"/>
                  <a:pt x="399142" y="0"/>
                </a:cubicBezTo>
                <a:cubicBezTo>
                  <a:pt x="495904" y="4838"/>
                  <a:pt x="593359" y="1983"/>
                  <a:pt x="689428" y="14514"/>
                </a:cubicBezTo>
                <a:cubicBezTo>
                  <a:pt x="706726" y="16770"/>
                  <a:pt x="718178" y="34298"/>
                  <a:pt x="732971" y="43543"/>
                </a:cubicBezTo>
                <a:cubicBezTo>
                  <a:pt x="756893" y="58495"/>
                  <a:pt x="781742" y="71940"/>
                  <a:pt x="805542" y="87086"/>
                </a:cubicBezTo>
                <a:cubicBezTo>
                  <a:pt x="862208" y="123146"/>
                  <a:pt x="964427" y="187143"/>
                  <a:pt x="994228" y="246743"/>
                </a:cubicBezTo>
                <a:cubicBezTo>
                  <a:pt x="1003904" y="266095"/>
                  <a:pt x="1015221" y="284711"/>
                  <a:pt x="1023257" y="304800"/>
                </a:cubicBezTo>
                <a:cubicBezTo>
                  <a:pt x="1052718" y="378454"/>
                  <a:pt x="1052224" y="391579"/>
                  <a:pt x="1066800" y="464457"/>
                </a:cubicBezTo>
                <a:cubicBezTo>
                  <a:pt x="1061962" y="628952"/>
                  <a:pt x="1063479" y="793758"/>
                  <a:pt x="1052285" y="957943"/>
                </a:cubicBezTo>
                <a:cubicBezTo>
                  <a:pt x="1048929" y="1007168"/>
                  <a:pt x="1029377" y="1054128"/>
                  <a:pt x="1023257" y="1103086"/>
                </a:cubicBezTo>
                <a:cubicBezTo>
                  <a:pt x="1018419" y="1141791"/>
                  <a:pt x="1014528" y="1180626"/>
                  <a:pt x="1008742" y="1219200"/>
                </a:cubicBezTo>
                <a:cubicBezTo>
                  <a:pt x="1000011" y="1277407"/>
                  <a:pt x="979714" y="1393371"/>
                  <a:pt x="979714" y="1393371"/>
                </a:cubicBezTo>
                <a:cubicBezTo>
                  <a:pt x="974876" y="1698171"/>
                  <a:pt x="974032" y="2003061"/>
                  <a:pt x="965200" y="2307771"/>
                </a:cubicBezTo>
                <a:cubicBezTo>
                  <a:pt x="964571" y="2329481"/>
                  <a:pt x="941416" y="2441201"/>
                  <a:pt x="936171" y="2467429"/>
                </a:cubicBezTo>
                <a:cubicBezTo>
                  <a:pt x="931333" y="2602896"/>
                  <a:pt x="930384" y="2738557"/>
                  <a:pt x="921657" y="2873829"/>
                </a:cubicBezTo>
                <a:cubicBezTo>
                  <a:pt x="920672" y="2889096"/>
                  <a:pt x="913984" y="2903687"/>
                  <a:pt x="907142" y="2917371"/>
                </a:cubicBezTo>
                <a:cubicBezTo>
                  <a:pt x="899341" y="2932973"/>
                  <a:pt x="890449" y="2948579"/>
                  <a:pt x="878114" y="2960914"/>
                </a:cubicBezTo>
                <a:cubicBezTo>
                  <a:pt x="865779" y="2973249"/>
                  <a:pt x="849085" y="2980267"/>
                  <a:pt x="834571" y="2989943"/>
                </a:cubicBezTo>
                <a:cubicBezTo>
                  <a:pt x="781351" y="3069772"/>
                  <a:pt x="834571" y="3002038"/>
                  <a:pt x="762000" y="3062514"/>
                </a:cubicBezTo>
                <a:cubicBezTo>
                  <a:pt x="689519" y="3122915"/>
                  <a:pt x="751436" y="3095064"/>
                  <a:pt x="674914" y="3120571"/>
                </a:cubicBezTo>
                <a:cubicBezTo>
                  <a:pt x="631371" y="3115733"/>
                  <a:pt x="585848" y="3119911"/>
                  <a:pt x="544285" y="3106057"/>
                </a:cubicBezTo>
                <a:cubicBezTo>
                  <a:pt x="524812" y="3099566"/>
                  <a:pt x="517821" y="3073900"/>
                  <a:pt x="500742" y="3062514"/>
                </a:cubicBezTo>
                <a:cubicBezTo>
                  <a:pt x="488012" y="3054028"/>
                  <a:pt x="471714" y="3052838"/>
                  <a:pt x="457200" y="3048000"/>
                </a:cubicBezTo>
                <a:cubicBezTo>
                  <a:pt x="428171" y="3018971"/>
                  <a:pt x="383096" y="2999860"/>
                  <a:pt x="370114" y="2960914"/>
                </a:cubicBezTo>
                <a:cubicBezTo>
                  <a:pt x="355567" y="2917272"/>
                  <a:pt x="357835" y="2911345"/>
                  <a:pt x="326571" y="2873829"/>
                </a:cubicBezTo>
                <a:cubicBezTo>
                  <a:pt x="313430" y="2858060"/>
                  <a:pt x="301785" y="2838623"/>
                  <a:pt x="283028" y="2830286"/>
                </a:cubicBezTo>
                <a:cubicBezTo>
                  <a:pt x="256135" y="2818334"/>
                  <a:pt x="224971" y="2820609"/>
                  <a:pt x="195942" y="2815771"/>
                </a:cubicBezTo>
                <a:cubicBezTo>
                  <a:pt x="200780" y="2796419"/>
                  <a:pt x="200560" y="2775034"/>
                  <a:pt x="210457" y="2757714"/>
                </a:cubicBezTo>
                <a:cubicBezTo>
                  <a:pt x="220641" y="2739892"/>
                  <a:pt x="240859" y="2729940"/>
                  <a:pt x="254000" y="2714171"/>
                </a:cubicBezTo>
                <a:cubicBezTo>
                  <a:pt x="355036" y="2592928"/>
                  <a:pt x="199358" y="2754299"/>
                  <a:pt x="326571" y="2627086"/>
                </a:cubicBezTo>
                <a:cubicBezTo>
                  <a:pt x="359904" y="2493753"/>
                  <a:pt x="311730" y="2631123"/>
                  <a:pt x="384628" y="2540000"/>
                </a:cubicBezTo>
                <a:cubicBezTo>
                  <a:pt x="394185" y="2528053"/>
                  <a:pt x="392300" y="2510141"/>
                  <a:pt x="399142" y="2496457"/>
                </a:cubicBezTo>
                <a:cubicBezTo>
                  <a:pt x="406943" y="2480855"/>
                  <a:pt x="418495" y="2467428"/>
                  <a:pt x="428171" y="2452914"/>
                </a:cubicBezTo>
                <a:cubicBezTo>
                  <a:pt x="423333" y="2298095"/>
                  <a:pt x="422494" y="2143099"/>
                  <a:pt x="413657" y="1988457"/>
                </a:cubicBezTo>
                <a:cubicBezTo>
                  <a:pt x="412784" y="1973182"/>
                  <a:pt x="405984" y="1958598"/>
                  <a:pt x="399142" y="1944914"/>
                </a:cubicBezTo>
                <a:cubicBezTo>
                  <a:pt x="368020" y="1882670"/>
                  <a:pt x="371516" y="1915615"/>
                  <a:pt x="326571" y="1857829"/>
                </a:cubicBezTo>
                <a:cubicBezTo>
                  <a:pt x="305152" y="1830290"/>
                  <a:pt x="287866" y="1799772"/>
                  <a:pt x="268514" y="1770743"/>
                </a:cubicBezTo>
                <a:lnTo>
                  <a:pt x="239485" y="1727200"/>
                </a:lnTo>
                <a:lnTo>
                  <a:pt x="210457" y="1683657"/>
                </a:lnTo>
                <a:lnTo>
                  <a:pt x="181428" y="1640114"/>
                </a:lnTo>
                <a:cubicBezTo>
                  <a:pt x="176590" y="1625600"/>
                  <a:pt x="170940" y="1611331"/>
                  <a:pt x="166914" y="1596571"/>
                </a:cubicBezTo>
                <a:cubicBezTo>
                  <a:pt x="156417" y="1558081"/>
                  <a:pt x="137885" y="1480457"/>
                  <a:pt x="137885" y="1480457"/>
                </a:cubicBezTo>
                <a:cubicBezTo>
                  <a:pt x="142723" y="1315962"/>
                  <a:pt x="143972" y="1151322"/>
                  <a:pt x="152400" y="986971"/>
                </a:cubicBezTo>
                <a:cubicBezTo>
                  <a:pt x="153127" y="972795"/>
                  <a:pt x="169524" y="892284"/>
                  <a:pt x="181428" y="870857"/>
                </a:cubicBezTo>
                <a:cubicBezTo>
                  <a:pt x="198371" y="840359"/>
                  <a:pt x="239485" y="783771"/>
                  <a:pt x="239485" y="783771"/>
                </a:cubicBezTo>
                <a:cubicBezTo>
                  <a:pt x="234647" y="628952"/>
                  <a:pt x="254536" y="471361"/>
                  <a:pt x="224971" y="319314"/>
                </a:cubicBezTo>
                <a:cubicBezTo>
                  <a:pt x="218312" y="285067"/>
                  <a:pt x="162555" y="285927"/>
                  <a:pt x="137885" y="261257"/>
                </a:cubicBezTo>
                <a:cubicBezTo>
                  <a:pt x="123371" y="246743"/>
                  <a:pt x="110111" y="230855"/>
                  <a:pt x="94342" y="217714"/>
                </a:cubicBezTo>
                <a:cubicBezTo>
                  <a:pt x="68072" y="195822"/>
                  <a:pt x="14514" y="188685"/>
                  <a:pt x="7257" y="174171"/>
                </a:cubicBezTo>
                <a:close/>
              </a:path>
            </a:pathLst>
          </a:cu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219640" y="1773360"/>
          <a:ext cx="3500640" cy="3500280"/>
        </p:xfrm>
        <a:graphic>
          <a:graphicData uri="http://schemas.openxmlformats.org/drawingml/2006/table">
            <a:tbl>
              <a:tblPr/>
              <a:tblGrid>
                <a:gridCol w="1166760"/>
                <a:gridCol w="1166760"/>
                <a:gridCol w="1167120"/>
              </a:tblGrid>
              <a:tr h="874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sum” (area = true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80" name="Picture 39" descr=""/>
          <p:cNvPicPr/>
          <p:nvPr/>
        </p:nvPicPr>
        <p:blipFill>
          <a:blip r:embed="rId1">
            <a:lum contrast="20000"/>
          </a:blip>
          <a:srcRect l="0" t="0" r="61174" b="0"/>
          <a:stretch/>
        </p:blipFill>
        <p:spPr>
          <a:xfrm>
            <a:off x="1357200" y="1557360"/>
            <a:ext cx="2351160" cy="25653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8"/>
          <p:cNvSpPr/>
          <p:nvPr/>
        </p:nvSpPr>
        <p:spPr>
          <a:xfrm>
            <a:off x="1042920" y="4368960"/>
            <a:ext cx="7345440" cy="1557000"/>
          </a:xfrm>
          <a:prstGeom prst="rect">
            <a:avLst/>
          </a:prstGeom>
          <a:solidFill>
            <a:srgbClr val="f3f68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C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new attribute for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put attribute for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I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tersection area between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d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area of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9" descr=""/>
          <p:cNvPicPr/>
          <p:nvPr/>
        </p:nvPicPr>
        <p:blipFill>
          <a:blip r:embed="rId2"/>
          <a:srcRect l="49126" t="0" r="0" b="55797"/>
          <a:stretch/>
        </p:blipFill>
        <p:spPr>
          <a:xfrm>
            <a:off x="3786120" y="1986120"/>
            <a:ext cx="3571920" cy="13158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2916360" y="6237360"/>
            <a:ext cx="33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(conserves m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39" descr=""/>
          <p:cNvPicPr/>
          <p:nvPr/>
        </p:nvPicPr>
        <p:blipFill>
          <a:blip r:embed="rId1"/>
          <a:srcRect l="47797" t="51626" r="0" b="0"/>
          <a:stretch/>
        </p:blipFill>
        <p:spPr>
          <a:xfrm>
            <a:off x="3679920" y="2170080"/>
            <a:ext cx="3529080" cy="13734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average” (area = true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86" name="Picture 39" descr=""/>
          <p:cNvPicPr/>
          <p:nvPr/>
        </p:nvPicPr>
        <p:blipFill>
          <a:blip r:embed="rId2">
            <a:lum contrast="20000"/>
          </a:blip>
          <a:srcRect l="0" t="0" r="61174" b="0"/>
          <a:stretch/>
        </p:blipFill>
        <p:spPr>
          <a:xfrm>
            <a:off x="1357200" y="1557360"/>
            <a:ext cx="2351160" cy="25653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21"/>
          <p:cNvSpPr/>
          <p:nvPr/>
        </p:nvSpPr>
        <p:spPr>
          <a:xfrm>
            <a:off x="1042920" y="4368960"/>
            <a:ext cx="7345440" cy="1557000"/>
          </a:xfrm>
          <a:prstGeom prst="rect">
            <a:avLst/>
          </a:prstGeom>
          <a:solidFill>
            <a:srgbClr val="f3f68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C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new attribute for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put attribute for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I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tersection area between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d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area of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916360" y="6237360"/>
            <a:ext cx="40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(does not conserve m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Rebuild Runoff databas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84360" y="2205000"/>
            <a:ext cx="8208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se “elevation.tif” and “elevation-box.shp” available in data of package g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se resolution 200 to create the cellula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pdate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fter simulation, create a new database with resolution 100 and run the simulatio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684360" y="2205000"/>
            <a:ext cx="6408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resolutions and ext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units of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Data as input for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460000" cy="1539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Homogenize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84360" y="3645000"/>
            <a:ext cx="7848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39640" y="2997360"/>
            <a:ext cx="8604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 Cellular representation unifies different representations, formats, resolutions, and ext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ells can be treated as samples or “objects” without needing to take into account their spatial represent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Helps statistics as well as mod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Imagem 5" descr="amazonia.png"/>
          <p:cNvPicPr/>
          <p:nvPr/>
        </p:nvPicPr>
        <p:blipFill>
          <a:blip r:embed="rId1"/>
          <a:stretch/>
        </p:blipFill>
        <p:spPr>
          <a:xfrm>
            <a:off x="611280" y="1017720"/>
            <a:ext cx="8424720" cy="5940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ata from different sources and representa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agem 5" descr="AREA_INDIGENA.png"/>
          <p:cNvPicPr/>
          <p:nvPr/>
        </p:nvPicPr>
        <p:blipFill>
          <a:blip r:embed="rId1"/>
          <a:stretch/>
        </p:blipFill>
        <p:spPr>
          <a:xfrm>
            <a:off x="539640" y="1125360"/>
            <a:ext cx="4978440" cy="2901960"/>
          </a:xfrm>
          <a:prstGeom prst="rect">
            <a:avLst/>
          </a:prstGeom>
          <a:ln w="0">
            <a:noFill/>
          </a:ln>
        </p:spPr>
      </p:pic>
      <p:pic>
        <p:nvPicPr>
          <p:cNvPr id="119" name="Imagem 7" descr="DEFOR_10.png"/>
          <p:cNvPicPr/>
          <p:nvPr/>
        </p:nvPicPr>
        <p:blipFill>
          <a:blip r:embed="rId2"/>
          <a:stretch/>
        </p:blipFill>
        <p:spPr>
          <a:xfrm>
            <a:off x="560520" y="4149720"/>
            <a:ext cx="4690800" cy="27352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3421080" y="11970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rotect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C:\Users\User\Desktop\FIGURAS\DIST_PORTOS.png"/>
          <p:cNvPicPr/>
          <p:nvPr/>
        </p:nvPicPr>
        <p:blipFill>
          <a:blip r:embed="rId3"/>
          <a:stretch/>
        </p:blipFill>
        <p:spPr>
          <a:xfrm>
            <a:off x="5016600" y="1052640"/>
            <a:ext cx="4127400" cy="290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:\Users\User\Desktop\FIGURAS\DIST_RODOVIAS.png"/>
          <p:cNvPicPr/>
          <p:nvPr/>
        </p:nvPicPr>
        <p:blipFill>
          <a:blip r:embed="rId4"/>
          <a:srcRect l="0" t="0" r="15384" b="0"/>
          <a:stretch/>
        </p:blipFill>
        <p:spPr>
          <a:xfrm>
            <a:off x="4932360" y="3983040"/>
            <a:ext cx="4211640" cy="2901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8029440" y="1125360"/>
            <a:ext cx="115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931160" y="420048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R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3494160" y="4272120"/>
            <a:ext cx="2590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Defore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Cellular Represent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609480" y="1125360"/>
            <a:ext cx="82836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imited by the resolution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imited by the computational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epends on the process under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Resolu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9" name="Picture 1" descr=""/>
          <p:cNvPicPr/>
          <p:nvPr/>
        </p:nvPicPr>
        <p:blipFill>
          <a:blip r:embed="rId1"/>
          <a:srcRect l="0" t="10383" r="0" b="0"/>
          <a:stretch/>
        </p:blipFill>
        <p:spPr>
          <a:xfrm>
            <a:off x="1763640" y="2781360"/>
            <a:ext cx="5573880" cy="3816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421560" y="6608880"/>
            <a:ext cx="78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atimagingcorp.com/services/resources/characterization-of-satellite-remote-sensing-syste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609480" y="1413000"/>
            <a:ext cx="85345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Represents a GI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ontains a set of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ame a given dat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ayers might be stored in different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an be used to create new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unctions to manipulate geospati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ackage “gis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609480" y="1125360"/>
            <a:ext cx="82836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reates a new attribute to the cells given an input data, a strategy, and other argu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5" name="Picture 1" descr="Captura de Tela 2016-08-08 às 17.15.59.png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rib81 pedrorib81</cp:lastModifiedBy>
  <cp:lastPrinted>2012-10-26T17:22:49Z</cp:lastPrinted>
  <dcterms:modified xsi:type="dcterms:W3CDTF">2018-08-07T11:52:52Z</dcterms:modified>
  <cp:revision>434</cp:revision>
  <dc:subject/>
  <dc:title>Low-carbon growth in Brazil?</dc:title>
</cp:coreProperties>
</file>